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DB80-A2D7-4AB6-8310-3ACF6E23D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5AF8-24F1-496A-AC05-68BC169F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4B64-36C0-4544-BEC6-BCBECD92F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29F1-818F-430D-BB84-C62E69B5A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426C-762A-4491-9272-07E81645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708B-6C92-4990-BF64-EF7825A3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903C-3E9B-4A21-86D6-375E7C95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691A-C42B-4B2A-8658-7701A9F3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8B56-F70E-42EC-8035-2583195A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C6D0-E72C-4B69-8C90-7E1A3C79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64A6-0210-404F-9224-617ED075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04D4-7465-46FD-AE15-3E9E48FF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148B-F1BC-4B85-BEF4-837CFC8745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4680" y="1143000"/>
            <a:ext cx="497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第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章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PLC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步进指令的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1" action="ppaction://hlinksldjump"/>
          </p:cNvPr>
          <p:cNvSpPr/>
          <p:nvPr/>
        </p:nvSpPr>
        <p:spPr>
          <a:xfrm>
            <a:off x="3025080" y="2361600"/>
            <a:ext cx="403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4.1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步进指令及步进程序的编程方法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81440" y="312336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4.2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步进指令的单流程控制举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53440" y="3961800"/>
            <a:ext cx="382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4.3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步进指令的选择结构流程控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53440" y="4723560"/>
            <a:ext cx="382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4.4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步进指令的并行结构流程控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4821120" cy="6705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019920" y="699120"/>
            <a:ext cx="28954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4.2.2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实习操作：运料小车单流程控制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324480" y="5378040"/>
            <a:ext cx="154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10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运料小车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848720" y="60199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7493"/>
                </a:moveTo>
                <a:lnTo>
                  <a:pt x="9094" y="7493"/>
                </a:lnTo>
                <a:lnTo>
                  <a:pt x="9094" y="12828"/>
                </a:lnTo>
                <a:cubicBezTo>
                  <a:pt x="9094" y="13751"/>
                  <a:pt x="9895" y="14482"/>
                  <a:pt x="10931" y="14482"/>
                </a:cubicBezTo>
                <a:lnTo>
                  <a:pt x="12593" y="14482"/>
                </a:lnTo>
                <a:cubicBezTo>
                  <a:pt x="13629" y="14482"/>
                  <a:pt x="14429" y="13751"/>
                  <a:pt x="14429" y="12828"/>
                </a:cubicBezTo>
                <a:lnTo>
                  <a:pt x="14429" y="7493"/>
                </a:lnTo>
                <a:lnTo>
                  <a:pt x="12593" y="7493"/>
                </a:lnTo>
                <a:lnTo>
                  <a:pt x="16101" y="3985"/>
                </a:lnTo>
                <a:lnTo>
                  <a:pt x="19773" y="7493"/>
                </a:lnTo>
                <a:lnTo>
                  <a:pt x="17937" y="7493"/>
                </a:lnTo>
                <a:lnTo>
                  <a:pt x="17937" y="12828"/>
                </a:lnTo>
                <a:cubicBezTo>
                  <a:pt x="17937" y="15596"/>
                  <a:pt x="15361" y="18155"/>
                  <a:pt x="12593" y="18155"/>
                </a:cubicBezTo>
                <a:lnTo>
                  <a:pt x="10931" y="18155"/>
                </a:lnTo>
                <a:cubicBezTo>
                  <a:pt x="8163" y="18155"/>
                  <a:pt x="5586" y="15596"/>
                  <a:pt x="5586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648520" y="227880"/>
            <a:ext cx="382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4.3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步进指令的选择结构流程控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04760" y="791640"/>
            <a:ext cx="3480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4.3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选择不同运行方式的运料小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86400" cy="1558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327320" y="3733560"/>
            <a:ext cx="17334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运料小车的选择方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45846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运料小车在左面装料处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限位）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种原料中选择一种装入，右行送料，自动将原料对应卸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限位）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限位）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限位）处，左行返回装料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976040" y="500400"/>
            <a:ext cx="4726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开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状态组合选择在何处卸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X0 = 1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均闭合，选择卸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处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X0 = 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闭合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断开，选择卸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处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X0 = 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断开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闭合，选择卸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5333760" cy="4554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648320" y="594288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1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选择结构的状态流程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-1440" y="3962520"/>
          <a:ext cx="9145440" cy="272880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  <a:gridCol w="1524240"/>
                <a:gridCol w="1525320"/>
              </a:tblGrid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   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   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入继电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入 元 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    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继电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出 元 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控 制 对 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选择开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右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选择开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左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按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Q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左限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Q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处位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Q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处位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Q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处位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7696080" cy="3457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617920" y="3472560"/>
            <a:ext cx="35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端口分配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912680" y="105840"/>
            <a:ext cx="51260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4.3.2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实习操作：选择不同运行方式的运料小车控制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54380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620120" cy="5908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558600" y="6323760"/>
            <a:ext cx="20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1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运料小车控制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848720" y="60199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7493"/>
                </a:moveTo>
                <a:lnTo>
                  <a:pt x="9094" y="7493"/>
                </a:lnTo>
                <a:lnTo>
                  <a:pt x="9094" y="12828"/>
                </a:lnTo>
                <a:cubicBezTo>
                  <a:pt x="9094" y="13751"/>
                  <a:pt x="9895" y="14482"/>
                  <a:pt x="10931" y="14482"/>
                </a:cubicBezTo>
                <a:lnTo>
                  <a:pt x="12593" y="14482"/>
                </a:lnTo>
                <a:cubicBezTo>
                  <a:pt x="13629" y="14482"/>
                  <a:pt x="14429" y="13751"/>
                  <a:pt x="14429" y="12828"/>
                </a:cubicBezTo>
                <a:lnTo>
                  <a:pt x="14429" y="7493"/>
                </a:lnTo>
                <a:lnTo>
                  <a:pt x="12593" y="7493"/>
                </a:lnTo>
                <a:lnTo>
                  <a:pt x="16101" y="3985"/>
                </a:lnTo>
                <a:lnTo>
                  <a:pt x="19773" y="7493"/>
                </a:lnTo>
                <a:lnTo>
                  <a:pt x="17937" y="7493"/>
                </a:lnTo>
                <a:lnTo>
                  <a:pt x="17937" y="12828"/>
                </a:lnTo>
                <a:cubicBezTo>
                  <a:pt x="17937" y="15596"/>
                  <a:pt x="15361" y="18155"/>
                  <a:pt x="12593" y="18155"/>
                </a:cubicBezTo>
                <a:lnTo>
                  <a:pt x="10931" y="18155"/>
                </a:lnTo>
                <a:cubicBezTo>
                  <a:pt x="8163" y="18155"/>
                  <a:pt x="5586" y="15596"/>
                  <a:pt x="5586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877120" y="380160"/>
            <a:ext cx="382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4.4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步进指令的并行结构流程控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91320" y="867960"/>
            <a:ext cx="2748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4.4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十字路口交通信号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167508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交通信号灯一个周期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20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的时序图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.1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南北信号灯和东西信号灯同时工作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0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期间，南北信号绿灯亮，东西信号红灯亮；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0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期间，南北信号黄灯亮，东西信号红灯亮；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10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期间，南北信号红灯亮，东西信号绿灯亮；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20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期间，南北信号红灯亮，东西信号黄灯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5410440" cy="37069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324480" y="5394240"/>
            <a:ext cx="23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15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交通信号灯的时序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629400" cy="3843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868840" y="5911200"/>
            <a:ext cx="23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16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交通信号灯控制线路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04160" y="76104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交通信号灯控制线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48840" y="45612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状态流程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676520" y="1066680"/>
            <a:ext cx="5715000" cy="4870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821400" y="5911200"/>
            <a:ext cx="16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17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状态流程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48862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>
            <a:hlinkClick r:id="rId1" action="ppaction://hlinksldjump"/>
          </p:cNvPr>
          <p:cNvSpPr/>
          <p:nvPr/>
        </p:nvSpPr>
        <p:spPr>
          <a:xfrm>
            <a:off x="2720520" y="456480"/>
            <a:ext cx="403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4.1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步进指令及步进程序的编程方法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04760" y="1097640"/>
            <a:ext cx="3480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4.1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三台电动机顺序启动控制线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903680"/>
            <a:ext cx="861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某设备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台电动机，控制要求是：按下启动按钮，第一台电动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启动；运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，第二台电动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启动；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运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5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，第三台电动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启动。按下停止按钮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台电动机全部停机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66640" y="2894760"/>
            <a:ext cx="348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端口分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0" y="3352680"/>
          <a:ext cx="9144000" cy="187344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523880"/>
                <a:gridCol w="1676520"/>
                <a:gridCol w="1371600"/>
                <a:gridCol w="152388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入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入元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元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控制对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停止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5854680" cy="6553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848720" y="60199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7493"/>
                </a:moveTo>
                <a:lnTo>
                  <a:pt x="9094" y="7493"/>
                </a:lnTo>
                <a:lnTo>
                  <a:pt x="9094" y="12828"/>
                </a:lnTo>
                <a:cubicBezTo>
                  <a:pt x="9094" y="13751"/>
                  <a:pt x="9895" y="14482"/>
                  <a:pt x="10931" y="14482"/>
                </a:cubicBezTo>
                <a:lnTo>
                  <a:pt x="12593" y="14482"/>
                </a:lnTo>
                <a:cubicBezTo>
                  <a:pt x="13629" y="14482"/>
                  <a:pt x="14429" y="13751"/>
                  <a:pt x="14429" y="12828"/>
                </a:cubicBezTo>
                <a:lnTo>
                  <a:pt x="14429" y="7493"/>
                </a:lnTo>
                <a:lnTo>
                  <a:pt x="12593" y="7493"/>
                </a:lnTo>
                <a:lnTo>
                  <a:pt x="16101" y="3985"/>
                </a:lnTo>
                <a:lnTo>
                  <a:pt x="19773" y="7493"/>
                </a:lnTo>
                <a:lnTo>
                  <a:pt x="17937" y="7493"/>
                </a:lnTo>
                <a:lnTo>
                  <a:pt x="17937" y="12828"/>
                </a:lnTo>
                <a:cubicBezTo>
                  <a:pt x="17937" y="15596"/>
                  <a:pt x="15361" y="18155"/>
                  <a:pt x="12593" y="18155"/>
                </a:cubicBezTo>
                <a:lnTo>
                  <a:pt x="10931" y="18155"/>
                </a:lnTo>
                <a:cubicBezTo>
                  <a:pt x="8163" y="18155"/>
                  <a:pt x="5586" y="15596"/>
                  <a:pt x="5586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1127160"/>
            <a:ext cx="186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18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交通信号灯控制程序梯形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49560" y="2818800"/>
            <a:ext cx="311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     E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86600" y="57913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45" h="21600">
                <a:moveTo>
                  <a:pt x="13474" y="10800"/>
                </a:moveTo>
                <a:lnTo>
                  <a:pt x="23979" y="3794"/>
                </a:lnTo>
                <a:lnTo>
                  <a:pt x="23979" y="17806"/>
                </a:lnTo>
                <a:close/>
              </a:path>
              <a:path fill="darken" w="33945" h="21600">
                <a:moveTo>
                  <a:pt x="9966" y="3794"/>
                </a:moveTo>
                <a:lnTo>
                  <a:pt x="11628" y="3794"/>
                </a:lnTo>
                <a:lnTo>
                  <a:pt x="11628" y="17806"/>
                </a:lnTo>
                <a:lnTo>
                  <a:pt x="99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406320" y="182160"/>
            <a:ext cx="16513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4.1.2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工序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2971800"/>
            <a:ext cx="4800600" cy="266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181480" y="838080"/>
            <a:ext cx="3360960" cy="4876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20320" y="5942880"/>
            <a:ext cx="265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1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台电动机顺序启动控制线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27160" y="5987160"/>
            <a:ext cx="128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工序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0" y="2895480"/>
          <a:ext cx="9144000" cy="10051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初始状态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回零状态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通用状态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保持状态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报警状态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共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共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共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5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8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共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9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共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3188880" y="639360"/>
            <a:ext cx="2292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4.1.3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状态继电器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44684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步进程序中要使用状态继电器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X2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系列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共有状态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点，分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类，状态继电器元件分类如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96600" y="2405880"/>
            <a:ext cx="34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状态继电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25240" y="258480"/>
            <a:ext cx="2017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4.1.4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状态流程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10080" y="297072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状态流程图是描述顺序控制功能的图解表示法（见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，状态流程图主要由状态（工步）、动作、有向连线、转换条件组成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95280" y="762120"/>
            <a:ext cx="3440160" cy="5867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164640" y="6171480"/>
            <a:ext cx="15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3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状态流程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3503880"/>
            <a:ext cx="83822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步进指令的使用说明如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T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是将步进接点接到左母线，步进接点只有常开接点。步进接点接通，需要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进行置位。步进接点如同主控指令一样，将左母线移到新的临时位置，即移到步进接点右边，相当于临时母线。所以，步进指令后的接点必须使用“取”指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步进接点具有主控功能。步进接点接通，与之相连的电路被执行；步进接点断开，与之相连的电路停止执行。若要在步进接点断开时仍然保持线圈的输出，要使用置位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而不要使用输出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E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称为“步进返回”指令，其功能是返回到原来左母线的位置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E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仅在最后一个状态的末行使用一次，否则程序报错不能运行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80560" y="182160"/>
            <a:ext cx="3376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4.1.5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步进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STL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28720" y="761400"/>
            <a:ext cx="355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TL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RE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-1440" y="1371600"/>
          <a:ext cx="9145440" cy="1095120"/>
        </p:xfrm>
        <a:graphic>
          <a:graphicData uri="http://schemas.openxmlformats.org/drawingml/2006/table">
            <a:tbl>
              <a:tblPr/>
              <a:tblGrid>
                <a:gridCol w="1220760"/>
                <a:gridCol w="1471320"/>
                <a:gridCol w="3453120"/>
                <a:gridCol w="1933560"/>
                <a:gridCol w="10666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助记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指令名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电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路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元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步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步进接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在左母线上连接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的常开接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状态继电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步进返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返回左母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791320" y="486720"/>
            <a:ext cx="28382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4.1.6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步进梯形图和指令表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470376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72200" y="5165640"/>
            <a:ext cx="18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台电动机顺序启动的步进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7848720" y="60199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7493"/>
                </a:moveTo>
                <a:lnTo>
                  <a:pt x="9094" y="7493"/>
                </a:lnTo>
                <a:lnTo>
                  <a:pt x="9094" y="12828"/>
                </a:lnTo>
                <a:cubicBezTo>
                  <a:pt x="9094" y="13751"/>
                  <a:pt x="9895" y="14482"/>
                  <a:pt x="10931" y="14482"/>
                </a:cubicBezTo>
                <a:lnTo>
                  <a:pt x="12593" y="14482"/>
                </a:lnTo>
                <a:cubicBezTo>
                  <a:pt x="13629" y="14482"/>
                  <a:pt x="14429" y="13751"/>
                  <a:pt x="14429" y="12828"/>
                </a:cubicBezTo>
                <a:lnTo>
                  <a:pt x="14429" y="7493"/>
                </a:lnTo>
                <a:lnTo>
                  <a:pt x="12593" y="7493"/>
                </a:lnTo>
                <a:lnTo>
                  <a:pt x="16101" y="3985"/>
                </a:lnTo>
                <a:lnTo>
                  <a:pt x="19773" y="7493"/>
                </a:lnTo>
                <a:lnTo>
                  <a:pt x="17937" y="7493"/>
                </a:lnTo>
                <a:lnTo>
                  <a:pt x="17937" y="12828"/>
                </a:lnTo>
                <a:cubicBezTo>
                  <a:pt x="17937" y="15596"/>
                  <a:pt x="15361" y="18155"/>
                  <a:pt x="12593" y="18155"/>
                </a:cubicBezTo>
                <a:lnTo>
                  <a:pt x="10931" y="18155"/>
                </a:lnTo>
                <a:cubicBezTo>
                  <a:pt x="8163" y="18155"/>
                  <a:pt x="5586" y="15596"/>
                  <a:pt x="5586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45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105520" y="1447920"/>
            <a:ext cx="3692520" cy="4724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729160" y="30420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4.2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步进指令的单流程控制举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14280" y="867960"/>
            <a:ext cx="2748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4.2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运料小车单流程控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61120" y="6171480"/>
            <a:ext cx="210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7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运料小车工作示意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316920" y="6247800"/>
            <a:ext cx="15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8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状态流程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0" y="609480"/>
          <a:ext cx="9147240" cy="20098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5320"/>
                <a:gridCol w="1524240"/>
                <a:gridCol w="1523880"/>
                <a:gridCol w="1525680"/>
              </a:tblGrid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入继电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入元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继电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元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控制对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Q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右限位开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右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Q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左限位开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左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按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装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卸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2617920" y="196200"/>
            <a:ext cx="35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端口分配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5715000" cy="37400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010280" y="5393880"/>
            <a:ext cx="19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9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运料小车控制线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k</cp:lastModifiedBy>
  <dcterms:modified xsi:type="dcterms:W3CDTF">2009-09-23T07:52:03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